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D76-818A-4249-BEDC-C32EE612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F95-0661-47E2-B837-4AE56BF0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48A-75A0-4E63-98E2-5AF5239A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A0F-40ED-4E05-B064-C95655D8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582-479C-4B3B-AF90-F0E427D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A9F-0427-429C-BF16-68A036C3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F43-E485-46EE-B07F-531EC575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9F1-D8FD-49A6-9213-0FC7E0E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748-2C55-4C2C-B130-BAE55471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2E0-DB83-4627-B36C-AA1FD47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766-1EE7-4870-AA83-0AF34ED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4A5-9B9D-4DB6-872B-6E869C3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D88-D21D-4962-9BDA-930FCFE9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057400" y="1447920"/>
            <a:ext cx="5410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omposition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581280" y="3276720"/>
            <a:ext cx="413856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of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Functions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447920" y="3808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Your Turn Agai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958680" y="1981080"/>
                <a:ext cx="3522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5357880" y="1695600"/>
                <a:ext cx="32288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304920" y="3809880"/>
            <a:ext cx="44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ready click your mo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416560" y="320040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212000" y="5791320"/>
            <a:ext cx="7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029200" y="5380200"/>
                <a:ext cx="367200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4457160" y="434340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5181480" y="3962520"/>
                <a:ext cx="3276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356400" y="5178600"/>
            <a:ext cx="40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your mouse 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rrect answ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4280" y="162864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5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533520" y="38088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Once More! Come O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06480" y="1959120"/>
                <a:ext cx="3627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473800" y="1695600"/>
                <a:ext cx="29970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Text Box 8"/>
          <p:cNvSpPr/>
          <p:nvPr/>
        </p:nvSpPr>
        <p:spPr>
          <a:xfrm>
            <a:off x="5416560" y="320040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212000" y="5791320"/>
            <a:ext cx="7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952880" y="5257800"/>
                <a:ext cx="2073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3695040" y="44197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352760" y="3962520"/>
                <a:ext cx="47912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"/>
          <p:cNvSpPr/>
          <p:nvPr/>
        </p:nvSpPr>
        <p:spPr>
          <a:xfrm>
            <a:off x="519480" y="160020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6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914400" y="685800"/>
                <a:ext cx="3627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5181480" y="457200"/>
                <a:ext cx="29973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8"/>
          <p:cNvSpPr/>
          <p:nvPr/>
        </p:nvSpPr>
        <p:spPr>
          <a:xfrm>
            <a:off x="5410080" y="31035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695040" y="44197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352760" y="3962520"/>
                <a:ext cx="47912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14"/>
          <p:cNvSpPr/>
          <p:nvPr/>
        </p:nvSpPr>
        <p:spPr>
          <a:xfrm>
            <a:off x="609480" y="17524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. A for the previous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s actuall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3733920" y="3048120"/>
                <a:ext cx="2090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55760" y="890640"/>
            <a:ext cx="73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asiest way to describe composition is to say it is like substitution.  In fa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432080" y="2719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133720" y="2971800"/>
                <a:ext cx="3962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Text Box 5"/>
          <p:cNvSpPr/>
          <p:nvPr/>
        </p:nvSpPr>
        <p:spPr>
          <a:xfrm>
            <a:off x="1600200" y="3962520"/>
            <a:ext cx="679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Read f of g of x which means substitute g(x) for x in the f(x) express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6400800" y="4952880"/>
          <a:ext cx="236232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952880"/>
                    <a:ext cx="236232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87320" y="50976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133080" y="114300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90512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03600" y="271944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286000" y="2743200"/>
                <a:ext cx="398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Text Box 8"/>
          <p:cNvSpPr/>
          <p:nvPr/>
        </p:nvSpPr>
        <p:spPr>
          <a:xfrm>
            <a:off x="516600" y="365760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ns substitute the g function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in the f function… like th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618640" y="48769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198880" y="57150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847080" y="30492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95680" y="22860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86000" y="1066680"/>
                <a:ext cx="398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8"/>
          <p:cNvSpPr/>
          <p:nvPr/>
        </p:nvSpPr>
        <p:spPr>
          <a:xfrm>
            <a:off x="2923560" y="19810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808720" y="281952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4560" y="2895480"/>
            <a:ext cx="233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 equal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057120" y="3581280"/>
            <a:ext cx="41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538520" y="4267080"/>
            <a:ext cx="27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6 - 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9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3"/>
          <p:cNvSpPr/>
          <p:nvPr/>
        </p:nvSpPr>
        <p:spPr>
          <a:xfrm flipV="1">
            <a:off x="1828800" y="4267080"/>
            <a:ext cx="1523880" cy="10670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876920" y="48769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475000" y="576756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,                 = 19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3429000" y="5791320"/>
                <a:ext cx="1828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9" name="Object 17"/>
          <p:cNvGraphicFramePr/>
          <p:nvPr/>
        </p:nvGraphicFramePr>
        <p:xfrm>
          <a:off x="457200" y="1295280"/>
          <a:ext cx="15969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5969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8"/>
          <p:cNvGraphicFramePr/>
          <p:nvPr/>
        </p:nvGraphicFramePr>
        <p:xfrm>
          <a:off x="7467480" y="4995720"/>
          <a:ext cx="1676520" cy="16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4995720"/>
                    <a:ext cx="167652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280520" y="585720"/>
            <a:ext cx="56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interesting fact is tha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1752480" y="1295280"/>
                <a:ext cx="5181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≠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Text Box 4"/>
          <p:cNvSpPr/>
          <p:nvPr/>
        </p:nvSpPr>
        <p:spPr>
          <a:xfrm>
            <a:off x="2999880" y="2133720"/>
            <a:ext cx="39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st of the ti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01760" y="2743200"/>
            <a:ext cx="250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see i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t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se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viou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3657600" y="3429000"/>
          <a:ext cx="251460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29000"/>
                    <a:ext cx="25146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27080" y="685800"/>
            <a:ext cx="38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19200" y="68580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1905120" y="1295280"/>
                <a:ext cx="556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5"/>
          <p:cNvSpPr/>
          <p:nvPr/>
        </p:nvSpPr>
        <p:spPr>
          <a:xfrm>
            <a:off x="1274040" y="2362320"/>
            <a:ext cx="68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us we will substitute f into 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366720" y="31240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984760" y="3962520"/>
            <a:ext cx="34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24720" y="464832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i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346920" y="4724280"/>
            <a:ext cx="46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355720" y="5462640"/>
            <a:ext cx="23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8 - 2x -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5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638680" y="601992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2286000" y="5333760"/>
            <a:ext cx="1752480" cy="6094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Object 14"/>
          <p:cNvGraphicFramePr/>
          <p:nvPr/>
        </p:nvGraphicFramePr>
        <p:xfrm>
          <a:off x="457200" y="1447920"/>
          <a:ext cx="9907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90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6"/>
          <p:cNvGraphicFramePr/>
          <p:nvPr/>
        </p:nvGraphicFramePr>
        <p:xfrm>
          <a:off x="7848720" y="5918040"/>
          <a:ext cx="9903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5918040"/>
                    <a:ext cx="9903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"/>
          <p:cNvSpPr/>
          <p:nvPr/>
        </p:nvSpPr>
        <p:spPr>
          <a:xfrm>
            <a:off x="226800" y="18576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380880"/>
            <a:ext cx="2209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Okay!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371600" y="19051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'll make it harder.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21320" y="319572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3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981080" y="350532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3528000" y="439596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2286000" y="5257800"/>
                <a:ext cx="2514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304920" y="45720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5867280" y="457200"/>
                <a:ext cx="2514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447920" y="1523880"/>
                <a:ext cx="57909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5"/>
          <p:cNvSpPr/>
          <p:nvPr/>
        </p:nvSpPr>
        <p:spPr>
          <a:xfrm>
            <a:off x="346320" y="29718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Write the f 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114800" y="281952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7"/>
          <p:cNvSpPr/>
          <p:nvPr/>
        </p:nvSpPr>
        <p:spPr>
          <a:xfrm>
            <a:off x="360360" y="38862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Substitute g(x) for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962520" y="3657600"/>
                <a:ext cx="4952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9"/>
          <p:cNvSpPr/>
          <p:nvPr/>
        </p:nvSpPr>
        <p:spPr>
          <a:xfrm>
            <a:off x="26280" y="464832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Replace g(x)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76720" y="4724280"/>
                <a:ext cx="685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419720" y="4572000"/>
                <a:ext cx="44100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12"/>
          <p:cNvSpPr/>
          <p:nvPr/>
        </p:nvSpPr>
        <p:spPr>
          <a:xfrm>
            <a:off x="-55080" y="599616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1905120" y="5867280"/>
                <a:ext cx="4392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6"/>
          <p:cNvSpPr/>
          <p:nvPr/>
        </p:nvSpPr>
        <p:spPr>
          <a:xfrm>
            <a:off x="4038480" y="2819520"/>
            <a:ext cx="4800600" cy="83808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962520" y="3809880"/>
            <a:ext cx="4952880" cy="838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124080" y="4724280"/>
            <a:ext cx="83844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267080" y="4724280"/>
            <a:ext cx="4648320" cy="10670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08160" y="24145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44520" y="33289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20840" y="416736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60360" y="53341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27"/>
          <p:cNvSpPr/>
          <p:nvPr/>
        </p:nvSpPr>
        <p:spPr>
          <a:xfrm>
            <a:off x="1752480" y="5791320"/>
            <a:ext cx="4572000" cy="10666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057400" y="457200"/>
            <a:ext cx="4724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Your Tur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380880" y="1981080"/>
                <a:ext cx="4680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715000" y="1981080"/>
                <a:ext cx="25146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Text Box 8"/>
          <p:cNvSpPr/>
          <p:nvPr/>
        </p:nvSpPr>
        <p:spPr>
          <a:xfrm>
            <a:off x="4562640" y="395928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94760" y="457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5486400" y="4419720"/>
                <a:ext cx="2514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0" name="Rectangle 11"/>
          <p:cNvSpPr/>
          <p:nvPr/>
        </p:nvSpPr>
        <p:spPr>
          <a:xfrm>
            <a:off x="4736520" y="5562720"/>
            <a:ext cx="6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2"/>
              <p:cNvSpPr txBox="1"/>
              <p:nvPr/>
            </p:nvSpPr>
            <p:spPr>
              <a:xfrm>
                <a:off x="5410080" y="5486400"/>
                <a:ext cx="2743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" name="Text Box 2"/>
          <p:cNvSpPr/>
          <p:nvPr/>
        </p:nvSpPr>
        <p:spPr>
          <a:xfrm>
            <a:off x="307080" y="16192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4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4:37:48Z</dcterms:created>
  <dc:creator>Julia S. Arnold</dc:creator>
  <dc:description/>
  <dc:language>en-US</dc:language>
  <cp:lastModifiedBy>test</cp:lastModifiedBy>
  <dcterms:modified xsi:type="dcterms:W3CDTF">2014-11-04T13:00:54Z</dcterms:modified>
  <cp:revision>10</cp:revision>
  <dc:subject/>
  <dc:title>No Slide Title</dc:title>
</cp:coreProperties>
</file>